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CA4-2608-443B-8B98-66ADC9E4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703A-9D5C-4A73-93D4-EE97FC6F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ADCD-A05F-4892-87D3-49B19509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1DB2-F149-490B-98B2-2DD07FDA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EEB6-E4F6-4BFB-AEA6-64C6354C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96E7-940B-4CF2-A102-BDA8D82F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ECB9-A7E5-4D87-BC8F-7CCEC1FA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4155-84B4-4080-85B6-94744B3C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AE51-AEA4-4931-8445-4DCC32FD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F056-1CFC-4E59-A789-9C55F506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FB51-3A16-4DEA-9B9C-5AA19111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01B6-E860-4A00-96CA-4FFA7EE1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27A9-C84B-437C-AE75-674E85E4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C317-EAEA-4725-8CA3-34FDA8E5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BC38-F388-4E0D-84AF-59988C16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EF48-CB4F-42A1-A47B-BC8ADA1F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BD6C-4C02-4946-86B5-65137DAB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097A-3104-4368-900F-084C2B5D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E850-67EB-4F51-BC90-41EFCDE3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2140-0193-4665-BB05-C5E49BCE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CE58-28D1-4B92-8D7C-BF4014F4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2DC8-34B7-446B-9426-9672329C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FC70-2FB4-4EB9-ADD0-38152F38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9A76-9855-40A1-AA6D-ACE6F02A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61D9-99A2-4F16-A8E1-9C5A9EBD25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40B0-B3F7-4BCC-995B-CCA58902B51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bquest.org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questgarden.com/88/01/4/091112091643/index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Copperplate Gothic Bold"/>
              </a:rPr>
              <a:t>WEBQUESTS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ower of the Web at the students’ fingerti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re WebQuests for Everyone??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be Not!  But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will never know how beneficial they are to you and your students until you try them for yourself!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be afraid, they are fun and easy to us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udents love feeling the independence with teacher guidance (from a distance) they have while completing a WebQuest journey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9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74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19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at in the World is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ebQuest??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ebQuest is an online interactive less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students of all ages and ability lev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t requires students to work in pairs or small groups on the computer to solve a prob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t guides the students through somewhat of a research process using various online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t is fun and easy to us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97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7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37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82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Good are WebQuests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promot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 collabo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/student &amp; student/computer inte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use of a variety of online tools/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ependent research, while maintaining teacher cont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2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2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12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47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search Show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labor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lective conversations, which are more likely to take place during teacher-designed tasks, promote student attention to language ski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/Student &amp; Student/Computer Interac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ion promotes language practice and offers feedback regarding language learner’s mistakes and accomplish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a Variety of Online Tools/Resourc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already using technology in many ways; the use of WebQuests is another way to promote the use of technology for learning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6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100"/>
                            </p:stCondLst>
                            <p:childTnLst>
                              <p:par>
                                <p:cTn id="65" nodeType="afterEffect" fill="hold" presetClass="entr" presetID="45">
                                  <p:stCondLst>
                                    <p:cond delay="3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22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4700"/>
                            </p:stCondLst>
                            <p:childTnLst>
                              <p:par>
                                <p:cTn id="75" nodeType="afterEffect" fill="hold" presetClass="entr" presetID="45">
                                  <p:stCondLst>
                                    <p:cond delay="2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64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o Uses WebQuests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 teacher or student wh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access to a computer with intern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irsty for knowledge and using new/fun ways to gain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s the many benefits of using technology to learn about the world around 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9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4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4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re there WebQuests already out there to use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your favorite search engine (e.g. </a:t>
            </a:r>
            <a:r>
              <a:rPr b="0" lang="en-US" sz="24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www.google.co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ype in “webquests of” and your topic of cho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tch all the choices compile into a list right before your eye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*Check the WebQuests carefully before using them in your classroom…some of them may try to connect you to websites that no longer exi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6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1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1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2100"/>
                            </p:stCondLst>
                            <p:childTnLst>
                              <p:par>
                                <p:cTn id="127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o I have to use WebQuests that are already created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 design a quest that fits your classroom needs just perfectly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are many sites out there that help teachers such as you to create your own perfect WebQuest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y: </a:t>
            </a:r>
            <a:r>
              <a:rPr b="0" lang="en-US" sz="2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://webquest.or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see an example of one of these helpful websi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4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9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4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at should I expect from a WebQuest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Introduc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will explain to you and your students exactly what topic and often the appropriate age/grade level of the Ques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Tas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shares the objective of the WebQuest; what you will learn from this journe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Proces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provides the exact steps the students will need to take in order to complete the journe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Resourc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provides a list of links and websites the students will be using to complete the journe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Evaluation/Conclus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will probably be two different pages.  The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evalu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hould offer some type of rubric to explain to the students how their work will be graded.  The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onclus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ypically is how they will present what they have learned to the rest of their clas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900"/>
                            </p:stCondLst>
                            <p:childTnLst>
                              <p:par>
                                <p:cTn id="16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700"/>
                            </p:stCondLst>
                            <p:childTnLst>
                              <p:par>
                                <p:cTn id="16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100"/>
                            </p:stCondLst>
                            <p:childTnLst>
                              <p:par>
                                <p:cTn id="17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4900"/>
                            </p:stCondLst>
                            <p:childTnLst>
                              <p:par>
                                <p:cTn id="18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11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31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71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11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1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 Example of a WebQue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ough my own research brought me to a few dead ends, I found what I considered an excellent example of a WebQuest titl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Unraveling the Underground Railro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(Click for a link to this WebQuest!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500"/>
                            </p:stCondLst>
                            <p:childTnLst>
                              <p:par>
                                <p:cTn id="2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20:37:10Z</dcterms:created>
  <dc:creator>Shaun </dc:creator>
  <dc:description/>
  <dc:language>en-US</dc:language>
  <cp:lastModifiedBy>Shaun </cp:lastModifiedBy>
  <dcterms:modified xsi:type="dcterms:W3CDTF">2010-06-05T22:36:41Z</dcterms:modified>
  <cp:revision>2</cp:revision>
  <dc:subject/>
  <dc:title>WEBQUESTS</dc:title>
</cp:coreProperties>
</file>